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488-91A9-496D-904A-0515E330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D49-A895-41E6-B818-94E7994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B11-215B-4C71-8E42-DE5EE35D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9FD-0754-4DEC-8790-73360D63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743-33BA-4467-82F5-3242071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963-BECD-444C-BC39-37321AB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484-E08A-4591-953A-38348AD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188-14ED-48B6-86FA-C1A1BF4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42C-42B6-4BFB-A34C-1B8FA82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679-010E-4EAA-B25C-FBCE6D3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AEE-F58C-4FB2-BA08-AD98079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4A9-52CD-451D-9A91-F32DCF0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A6A-0ACC-48CE-A405-4A0407F73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2592360" cy="129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402920" y="220500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924280"/>
            <a:ext cx="2592360" cy="165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re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157720"/>
            <a:ext cx="2737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se meno di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lo 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4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4869000"/>
            <a:ext cx="1584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779640" y="573408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6093000"/>
            <a:ext cx="1440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5805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308640"/>
            <a:ext cx="1152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73408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6093000"/>
            <a:ext cx="122400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12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33360"/>
            <a:ext cx="180000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516720" y="62028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96360" y="260280"/>
            <a:ext cx="1296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126828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1413000"/>
            <a:ext cx="1297080" cy="1726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70028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1773360"/>
            <a:ext cx="2952720" cy="1871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ieri a 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3716280"/>
            <a:ext cx="503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3357720"/>
            <a:ext cx="1297080" cy="151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08360" y="50133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5445000"/>
            <a:ext cx="115092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44000" y="515772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5805360"/>
            <a:ext cx="1224000" cy="792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26Z</dcterms:created>
  <dc:creator>studente</dc:creator>
  <dc:description/>
  <dc:language>en-US</dc:language>
  <cp:lastModifiedBy>studente</cp:lastModifiedBy>
  <dcterms:modified xsi:type="dcterms:W3CDTF">2016-12-05T08:41:49Z</dcterms:modified>
  <cp:revision>4</cp:revision>
  <dc:subject/>
  <dc:title>Diapositiva 1</dc:title>
</cp:coreProperties>
</file>